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41E-85AE-478D-B73A-2267D436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FD5-1088-432E-AB37-F7A7F157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2E2-B605-45A5-AA78-EA827C67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58A-6388-41A0-BBF2-8FA2D91E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8EE3-AB0B-44F6-A961-9743434B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AB53B-AE5C-4163-8991-80FB86C8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94D-CACE-47BE-8EE4-42F3E6DA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9F48-AB4E-42C2-AD2A-04F881FA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9F74-8714-4261-AE06-A2A381DE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47D-7A65-493D-8998-CBB9B6C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823E-F089-4770-8247-E6C8E23A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DAE-7747-47D1-969E-CA14E59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ED76-CB50-49CF-8C49-BAD931B4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6FC4-00D8-426F-8307-00019B46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F627-BC40-4E52-B917-E0D69A2F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B8E-3A90-4A57-BBAF-44810BA1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DD03-67A3-4939-B6B0-CA396C9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275-56F9-4972-ACC1-D922D708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C76-D534-4BDC-92E9-C1B6A693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791-7A13-4FAC-81C9-4B24550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513-972F-4786-B629-2C04497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BECC-FEA5-4EA1-BFD3-23BEB0B6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6F7-0373-4AD2-84B2-226FA3AF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0E1-B718-429B-8286-6C86405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D3A5-8BDB-4516-B822-28D67285E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1AE1-C27E-43E2-862D-CBE9C86C8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39640" y="189000"/>
            <a:ext cx="410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Croesi’r afon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43280"/>
            <a:ext cx="77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r Waters a’i efeilliaid, Dan a Jan, angen croe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fon mewn canw. Gall y canw ddal pwysau o 100 k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284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t mae’r tri yn gallu croesi’r afon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1747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r Waters yn pwyso 80 kg, a Dan a Jan yn pwyso 50 kg yr 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09564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7:13:29Z</dcterms:created>
  <dc:creator>Carwyn</dc:creator>
  <dc:description/>
  <dc:language>en-US</dc:language>
  <cp:lastModifiedBy>Carwyn</cp:lastModifiedBy>
  <dcterms:modified xsi:type="dcterms:W3CDTF">2008-12-08T12:11:49Z</dcterms:modified>
  <cp:revision>4</cp:revision>
  <dc:subject/>
  <dc:title>Croesi’r afon</dc:title>
</cp:coreProperties>
</file>